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164-1611-4B35-A9C3-83D95204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AE1-B061-4672-BCDE-DA844D78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892-BF3C-4EE3-A807-63CCC781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F09-AE77-4100-86E2-1EF6DBB7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12A2-8D15-4C4C-B092-E894171F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F434-DD0D-492C-B541-C2ECBE0F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A22A-7B7E-48B7-9548-5168126A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EE4F-989F-478E-BD0F-ED2CAEC6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44B0-79CA-4030-8A4E-A08090C6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B381-903F-4F49-A5C2-7114917D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FFD8-3B81-482B-A7DB-584F9A63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78A-7385-4ABB-839A-B24BD58E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9FE1-C9AB-4F3E-8F0B-10B7EC7E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9945-0E07-4D66-AF7D-125274B9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5360-1B78-43A7-9F87-8E1865DB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484C-A67F-4253-9A0A-B4300AA4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4299-7198-409E-B2F9-60A26D73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FF9-66BF-4DC7-AFD2-7A73814E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FB8-D3BD-4B67-9DDB-7AD64B5C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812-706E-42F2-9ED8-6FD4E492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CFA-28EA-4CD2-B0DA-475FFAF2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FEE-3F27-40A4-8CCD-385FCA3D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E78-49BB-48C1-B0FA-64548F1F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FE0-1444-49BF-89D1-AAE46BF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8449-34BE-400D-9850-F1B9FB72C1F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803A-097C-4818-8865-D811D45EA5C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BORON FAMILY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2627280" y="522936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79640" y="573408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Monotype Corsiva"/>
              </a:rPr>
              <a:t>4</a:t>
            </a:r>
            <a:r>
              <a:rPr b="0" lang="en-US" sz="1800" spc="-1" strike="noStrike" baseline="30000">
                <a:solidFill>
                  <a:srgbClr val="ffcc00"/>
                </a:solidFill>
                <a:latin typeface="Monotype Corsiva"/>
              </a:rPr>
              <a:t>th</a:t>
            </a:r>
            <a:r>
              <a:rPr b="0" lang="en-US" sz="1800" spc="-1" strike="noStrike">
                <a:solidFill>
                  <a:srgbClr val="ffcc00"/>
                </a:solidFill>
                <a:latin typeface="Monotype Corsiva"/>
              </a:rPr>
              <a:t>  Emily Fears &amp; Veronica Cervant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ELEMENTS NAM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BORON</a:t>
            </a: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ALUMIN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GALL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IND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THALL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BORON FAMILY INFORM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The Boron Family is a metalloid.</a:t>
            </a: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Most of the family are met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They have 3 electrons in the outer shell or in other words the valence electron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The name comes from the Arabic and Persian words for borax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Boron exists in the earths crust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Monotype Corsiva"/>
              </a:rPr>
              <a:t>The pure elements is shiny and blac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7:34:24Z</dcterms:created>
  <dc:creator>tatumadmin</dc:creator>
  <dc:description/>
  <dc:language>en-US</dc:language>
  <cp:lastModifiedBy>tatumadmin</cp:lastModifiedBy>
  <dcterms:modified xsi:type="dcterms:W3CDTF">2009-12-04T17:23:25Z</dcterms:modified>
  <cp:revision>2</cp:revision>
  <dc:subject/>
  <dc:title>BORON FAMILY</dc:title>
</cp:coreProperties>
</file>